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58C-EAF6-435F-AE4F-841E7B75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4EF-B67F-40CA-BE72-923E4B67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FA6-E2E0-43D1-83EE-0B1A28FA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96B-420B-4F88-8E51-D178C4A2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BE2-21A2-4499-9924-EA67FCDF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0F1-EF87-46EA-86E0-50F968CC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E2F-BD47-4610-8517-3ED7248B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7D0-D372-4CCE-BC2E-D1CC304C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D14-2C91-4A40-97FC-75DB16C4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32F-0BA5-4AD7-8EE7-7D0374FC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D88-7757-4E87-8F07-EF1EBEB2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C0B-69EF-48DF-BFE3-6FAEF20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4C8-0194-42EB-B3E5-EE2B59135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473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　地震で自宅が壊れたら　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200" y="2851200"/>
            <a:ext cx="4105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被災建築物応急危険度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発災後、速やかに実施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　 的：二次災害防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役　 割：建物への立入りの危険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調査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要注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危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 目につきやすいところに貼り付け、住民へ情報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調査者：○○市が要請した応急危険度判定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917720"/>
            <a:ext cx="8064360" cy="358920"/>
          </a:xfrm>
          <a:prstGeom prst="rightArrow">
            <a:avLst>
              <a:gd name="adj1" fmla="val 30389"/>
              <a:gd name="adj2" fmla="val 1798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5480" y="1949400"/>
            <a:ext cx="287640" cy="28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360" y="189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08000" y="2030400"/>
            <a:ext cx="1944720" cy="11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49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宅は大丈夫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1341360"/>
            <a:ext cx="1187640" cy="433440"/>
          </a:xfrm>
          <a:prstGeom prst="wedgeRoundRectCallout">
            <a:avLst>
              <a:gd name="adj1" fmla="val -2407"/>
              <a:gd name="adj2" fmla="val 9725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震発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1341360"/>
            <a:ext cx="2016000" cy="433440"/>
          </a:xfrm>
          <a:prstGeom prst="wedgeRoundRectCallout">
            <a:avLst>
              <a:gd name="adj1" fmla="val -16615"/>
              <a:gd name="adj2" fmla="val 9725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応急危険度判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5329080" cy="433440"/>
          </a:xfrm>
          <a:prstGeom prst="wedgeRoundRectCallout">
            <a:avLst>
              <a:gd name="adj1" fmla="val -35106"/>
              <a:gd name="adj2" fmla="val 10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被害認定調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申請～現場調査～被害認定～罹災証明書発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620640"/>
            <a:ext cx="88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応急危険度判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と　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被害認定調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の違い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839800">
            <a:off x="1886040" y="21794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2492280"/>
            <a:ext cx="4211640" cy="4105440"/>
          </a:xfrm>
          <a:prstGeom prst="rect">
            <a:avLst/>
          </a:prstGeom>
          <a:noFill/>
          <a:ln w="507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92720" y="2492280"/>
            <a:ext cx="4643280" cy="410544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25272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生活再建へ向け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43600">
            <a:off x="5567040" y="2176200"/>
            <a:ext cx="195120" cy="287280"/>
          </a:xfrm>
          <a:prstGeom prst="downArrow">
            <a:avLst>
              <a:gd name="adj1" fmla="val 50000"/>
              <a:gd name="adj2" fmla="val 368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92720" y="2852640"/>
            <a:ext cx="47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被害認定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発災後、一週間程度から実施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　 的：被災した住宅の被害の程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全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規模半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半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部損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   を認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役　 割：調査結果に基づき被災世帯に「罹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りさ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証明書」を発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調査者：○○市の税務課職員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1947960"/>
            <a:ext cx="287280" cy="288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5880" y="1947960"/>
            <a:ext cx="287280" cy="288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7480" y="19479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16360" y="4797360"/>
            <a:ext cx="1222200" cy="1730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4797360"/>
            <a:ext cx="1225800" cy="173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47640" y="4797360"/>
            <a:ext cx="1216080" cy="1738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16360" y="45226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赤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立入り危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4411800"/>
            <a:ext cx="13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黄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立入る際は十分注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280" y="4522680"/>
            <a:ext cx="15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緑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意して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616428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罹災証明書は、被災者生活再建支援金の支給、住宅の応急修理など、様々な公的支援を受ける際に必要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00720" y="5805360"/>
          <a:ext cx="2087280" cy="273240"/>
        </p:xfrm>
        <a:graphic>
          <a:graphicData uri="http://schemas.openxmlformats.org/drawingml/2006/table">
            <a:tbl>
              <a:tblPr/>
              <a:tblGrid>
                <a:gridCol w="2087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害の程度の認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7020000" y="5172120"/>
          <a:ext cx="1944720" cy="27288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罹災（りさい）証明書の発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7020000" y="5805360"/>
          <a:ext cx="1944720" cy="27288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災者支援策の活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00720" y="4651200"/>
          <a:ext cx="2087280" cy="288720"/>
        </p:xfrm>
        <a:graphic>
          <a:graphicData uri="http://schemas.openxmlformats.org/drawingml/2006/table">
            <a:tbl>
              <a:tblPr/>
              <a:tblGrid>
                <a:gridCol w="208728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災世帯から、○○市へ申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500720" y="5229360"/>
          <a:ext cx="2087280" cy="272880"/>
        </p:xfrm>
        <a:graphic>
          <a:graphicData uri="http://schemas.openxmlformats.org/drawingml/2006/table">
            <a:tbl>
              <a:tblPr/>
              <a:tblGrid>
                <a:gridCol w="2087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害認定調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5435640" y="4941720"/>
            <a:ext cx="287280" cy="28764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551664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12000" y="544500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486800">
            <a:off x="6705720" y="5316480"/>
            <a:ext cx="201600" cy="574560"/>
          </a:xfrm>
          <a:prstGeom prst="downArrow">
            <a:avLst>
              <a:gd name="adj1" fmla="val 50000"/>
              <a:gd name="adj2" fmla="val 71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000" y="6580080"/>
            <a:ext cx="38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問い合わせ先　　○○○○課　○○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○○○-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7080" y="6597720"/>
            <a:ext cx="38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問い合わせ先　　○○○○課　○○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○○○-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0T00:15:36Z</dcterms:created>
  <dc:creator>Administrator</dc:creator>
  <dc:description/>
  <dc:language>en-US</dc:language>
  <cp:lastModifiedBy>Administrator</cp:lastModifiedBy>
  <dcterms:modified xsi:type="dcterms:W3CDTF">2018-08-20T02:39:42Z</dcterms:modified>
  <cp:revision>44</cp:revision>
  <dc:subject/>
  <dc:title>スライド 1</dc:title>
</cp:coreProperties>
</file>